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33E-5228-44FB-B9EC-842DD89B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0DF-CAF1-4CC3-9351-6D4EE9C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2C2-B349-473B-9DD8-B95C43A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89F-F290-4ABE-9624-95EB161B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C34-EEB3-4B72-ABAB-C21147C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A0C-9FBB-4B99-82B9-FA950B1E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3F2-38FB-4B48-B931-8E79418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290-E3FC-4421-90CF-8891374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190-ED65-4AB3-B977-C398C1A2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BE5-D2F5-4258-9FE7-3C3A59F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90A-0166-4AD7-99CD-7BA7F69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FA9-DD22-4584-B13F-640840D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163-E9C0-4B9C-9DD1-6DF3000B8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9900"/>
                </a:solidFill>
                <a:latin typeface="Bookman Old Style"/>
              </a:rPr>
              <a:t>حدائق الياسم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نقدم النباتات والأزهار في تصاميم رائ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886880" y="4714920"/>
          <a:ext cx="125712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4714920"/>
                    <a:ext cx="12571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0:02Z</dcterms:created>
  <dc:creator>15:02</dc:creator>
  <dc:description/>
  <dc:language>en-US</dc:language>
  <cp:lastModifiedBy>Andaleeb</cp:lastModifiedBy>
  <dcterms:modified xsi:type="dcterms:W3CDTF">2004-08-04T11:14:43Z</dcterms:modified>
  <cp:revision>3</cp:revision>
  <dc:subject/>
  <dc:title>Jasmine Gardens</dc:title>
</cp:coreProperties>
</file>